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2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saliv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 flipV="1">
            <a:off x="3313080" y="2729520"/>
            <a:ext cx="2699280" cy="13528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1" name=""/>
          <p:cNvCxnSpPr>
            <a:stCxn id="98" idx="3"/>
            <a:endCxn id="102" idx="1"/>
          </p:cNvCxnSpPr>
          <p:nvPr/>
        </p:nvCxnSpPr>
        <p:spPr>
          <a:xfrm flipV="1">
            <a:off x="3313080" y="4080600"/>
            <a:ext cx="2699280" cy="18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luck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8" idx="3"/>
            <a:endCxn id="103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ul nich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richt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schlos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peichelproduktio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0440" y="54936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ersaliv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eichelproduktio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3"/>
            <a:endCxn id="109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0" name=""/>
          <p:cNvCxnSpPr>
            <a:stCxn id="107" idx="3"/>
            <a:endCxn id="111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äsion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er Maulhöh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rkrankun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peicheldrü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07" idx="3"/>
            <a:endCxn id="112" idx="1"/>
          </p:cNvCxnSpPr>
          <p:nvPr/>
        </p:nvCxnSpPr>
        <p:spPr>
          <a:xfrm flipV="1">
            <a:off x="3312720" y="2055600"/>
            <a:ext cx="2699640" cy="202608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5" name=""/>
          <p:cNvCxnSpPr>
            <a:stCxn id="107" idx="3"/>
            <a:endCxn id="113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1007640" y="549360"/>
            <a:ext cx="41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ersalivatio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peichelproduktio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Nause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ppetitstimu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äsion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Maulhöh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05560" y="549360"/>
            <a:ext cx="67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salivatio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peichelproduktio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Läsion in der Maulhöh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8" idx="3"/>
            <a:endCxn id="12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erpesvirus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alicivirus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Verätzung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rkank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er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peichdrü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37600" y="549360"/>
            <a:ext cx="75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salivatio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peichelproduktio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rkrankung der Speicheldrü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3" idx="3"/>
            <a:endCxn id="12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ialoaden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ul nich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icht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schlos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7920" y="549360"/>
            <a:ext cx="53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salivatio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Maul nicht richtig geschlos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3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Kieferanomal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ippenanomal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auma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luck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chanisch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indern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3" idx="3"/>
            <a:endCxn id="13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7" name=""/>
          <p:cNvCxnSpPr>
            <a:stCxn id="133" idx="3"/>
            <a:endCxn id="13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8" name=""/>
          <p:cNvSpPr/>
          <p:nvPr/>
        </p:nvSpPr>
        <p:spPr>
          <a:xfrm>
            <a:off x="909000" y="549360"/>
            <a:ext cx="37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salivatio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Schluck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urolog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urolog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4840" y="549360"/>
            <a:ext cx="663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ypersalivatio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Schluckstörung &gt; neurologische 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0" idx="3"/>
            <a:endCxn id="14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rikopharynge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chalas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ollwu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etanu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chanisch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indern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7000" y="549360"/>
            <a:ext cx="68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ersalivation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Schluckstörung &gt; mechanisches Hindern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5" idx="3"/>
            <a:endCxn id="14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emdkörp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wellung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umo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07:37:30Z</dcterms:modified>
  <cp:revision>334</cp:revision>
  <dc:subject/>
  <dc:title>Vorstellung einer Neuheit</dc:title>
</cp:coreProperties>
</file>